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DED-3AE4-40B6-903B-02E96D0B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A1F-A669-4F57-B0CB-B3163ABA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05A-16AF-405F-B104-A1EC08D6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7B6-1372-4332-80FA-BA0B6B20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559-FABA-4B7F-8D7D-CD4DC8BF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18A-D608-4DB5-9F07-0B9646FE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948-B4C5-4C1C-A43B-147B9C4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E25-F113-4B34-8E72-C893E431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5AE-6093-4087-84D5-60594D6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7C5-0D68-429A-AF4D-A275E21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172-6CA9-49AD-A0C4-2825D0B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C04-F236-4194-8670-B291D851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CB78-7894-4E68-BF23-98FFE16C76D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987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”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slēguma konference - Projekta rezultātu izplatīšana</a:t>
            </a:r>
            <a:br>
              <a:rPr sz="1800"/>
            </a:br>
            <a:br>
              <a:rPr sz="1800"/>
            </a:b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VPD un IeVP darbinieku apmācība </a:t>
            </a:r>
            <a:br>
              <a:rPr sz="2800"/>
            </a:b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V0024 Apmācību nodaļas </a:t>
            </a: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vadītāja Daina Vanag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u dalībnieku atziņas par visnoderīgāko MI apmācībā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 labāk uzdot jautājumus un kādus, lai izvilktu no klienta nepieciešamos resursus viņa iespējamai maiņai bez konfrontācija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dēļ cilvēks mainās vai nemainā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svērt cilvēku uz dialogu un pārmaiņām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 bija svarīgi uzzināt kā veicināt klientu veikt  pārmaiņas sevī un es to uzzināj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992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ācību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mācību vizītes (Norvēģijā, Dānijā, Francijā), kurās piedalījās 24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s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iepazīties ar probācijas un ieslodzījuma vietu darbinieku apmācību pieredzi un gūt informāciju mācību programmu izstrāde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ieredzes apmaiņas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pieredzes apmaiņas vizītes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(Īrijā, Norvēģijā, Austrijā),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urās piedalījās 45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gūt pieredzi par izlīguma organizēšanu starp cietušo un likumpārkāpēju, iepazīties ar darba metodēm sabiedrībā izciešamo sodu organizēšanā, pētīt resocializācijas praksi ieslodzījuma vietā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līšanās ārvalstu pieredz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jekta īstenošanas laikā tika iekļauta jauna aktivitāt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Dalīšanās ārvalstu pieredzē”,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kas sasaucās ar kopējo projekta mērķi – paaugstināt probācijas sistēmā nodarbināto kompetenci un darba kvalitāti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eredzes apmaiņas semināra mērķis - pēc iespējas lielāku probācijas darbinieku skaitu iepazīstināt ar citu Eiropas valstu progresīvo pieredzi probācijas jomā, tādejādi attīstot darbinieku motivāciju pilnveidot savas zināšanas, prasmes un iemaņas darbā ar probācijas klient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ā kopumā piedalījās 50 VPD darbinieki, kas pārstāvēja visas TSV un to filiāle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lēģ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nsultāci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Lai uzlabotu probācijas darba kvalitāti darbā ar klientu, sniegtu savstarpēju atbalstu un vienlaicīgi novērtētu iepriekš minēto apmācību efektivitāti tika iekļauta jauna aktivitāte </a:t>
            </a: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“Kolēģu konsultācijas”,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kas sasaucas ar iepriekš minēto projekta mērķi - paaugstināt probācijas sistēmā nodarbināto kompetenci un darba kvalitāt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aikā tiks īstenoti 16 profesionālā atbalsta pasākumi, kuros kopumā piedalīsies 192 probācijas darbinieki. Kolēģu konsultācijās piedalās darbinieki, kas ir iepriekš piedalījušies apmācībās, tādējādi turpinot apmācību pieredz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Trīs galvenās diskusiju tēmas –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urpinājum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tījums “Par probācijas un ieslodzījuma vietu darbinieku apmācību vajadzībām, kompetencēm un esošo apmācību programmu izvērtēšan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eVP un VPD darbinieku mācību programmu izstrāde un pilnveid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Norvēģijas nacionālā mediācijas dienesta atbalsts izlīguma speciālistu sagatavošan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776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slēguma diskusi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6180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fesionāla speciālista kompetenci raksturo – zināšanas, prasmes un vērtības (attieksmes), lai kvalitatīvi veiktu savu darb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9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va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valitātes jautājumi: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grib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rīkst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pēj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 nodaļas uzdev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VPD un IeVP darbinieku apmācību semināru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mācību semināru programmu izstrādi un mācību materiālu tulko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pieredzes apmaiņas vizītes un mācību vizītes uz ārvalstī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pētījuma veikšanu par probācijas un ieslodzījuma vietu darbinieku apmācību vajadzībām, kompetencēm un esošo apmācību programmu izvērtē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apmācību programmu izstrādi un pilnveidi probācijas un ieslodzījuma vietu darbinieku apmācība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nansē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ējais projekta budžets EUR 869 9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mācību nodaļas uzdevumu realizēšanai plānotais finansējums EUR 619 7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56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rbinieku apmāc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ānotais - 570 dalībnieku apmācība 32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o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22 semināros tiks apmācīti 351 dalīb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umā projekta ietvaros tiks noorganizēti 54 semināri, kuros piedalīsies 932 dalībnieki (IeVP 364 un VPD 568)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 apmācīti 314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robācijas darbiniek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o projekta īstenošanas laikā apmācītajiem darbiniekiem probācijā vairs nestrādā 53 semināru dalībnieki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apmācīti 190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eslodzījuma vietu darbi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organizēti seminā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29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dzimumnoziedzniekie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11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atkarīgām personā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2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3 semināri / 3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vējošā interv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16 semināri / 256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progra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ietvaros ir izstrādātas semināru programmas: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dzimumnoziedz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atkarīgām personā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tēmas iekļautas darbinieku apmācību programmā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5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lek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programmas izstrādāja profesionāļi konkrētajā jomā (ārsti, psihologi, psihoterapeiti utml.)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s vadīja speciālisti no ASV, Norvēģijas, Dānijas, Ziemeļīrijas un Šveice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peciālisti no Latvijas  vadīja seminārus –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”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8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23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ctecību projekta realizācijā nodrošinās 16 apmācītie semināru “Motivējošā intervēšana” (MI) vadītāji, kas projekta ietvaros novadīs 16 seminārus, kopumā apmācot 256 IeVP un VPD darbiniekus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I vadītājus sagatavoja Īlas cietuma speciālisti no Norvēģij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dalībnieki motivējošās intervēšanas apmācību atzinīgi novērtē, kā darba instrumentu darbam ar klientu gan IeVP, gan VPD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1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lva.cimdina</cp:lastModifiedBy>
  <dcterms:modified xsi:type="dcterms:W3CDTF">2010-12-14T14:09:18Z</dcterms:modified>
  <cp:revision>33</cp:revision>
  <dc:subject/>
  <dc:title>Slide 1</dc:title>
</cp:coreProperties>
</file>